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B9AE-FCA0-41D8-BFC5-5D1A5D14A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91D0-670B-4199-B27E-B0461B441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F2DA-824B-44FA-9BF6-3A4AEB8D0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68BA-3155-4DB1-BDFA-65FCE1114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F5D1-A823-41D8-ABF7-F18950179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7BEA-D2A7-4F1F-8E4E-648982AF1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07A8-349F-4F37-A48B-DD7C07A1B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C605-8706-4E4D-8CBB-04346109B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1D3E-8196-4942-AA24-21502C4D2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4D37-9C3C-4989-9C69-BE288AE04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C4B1-8A1C-4A8A-8015-431E86CF4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E42A-40F6-4366-B457-8E4F3E0D1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AB32-03B9-4FD2-96E3-D0A2E23C5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8BDD-8EB9-49A3-969D-2F4C1BAE8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9B27-82F9-4B26-814F-7DA024EB7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C860-C3A3-4B47-8054-9E24C0143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29B9-B3EF-4CEE-974E-E15DBE8EC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615-B5B7-497B-AB2B-D1501E42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08F-C4C9-472B-B2A1-0FA9A0F9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6FD-7F13-4EBC-B756-22E7C3D1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D7D-FB4D-42F7-B0D4-C3619C8D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5A2-2FCC-4F0D-AE1B-C81AAA29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B22-43AB-4A2B-BE58-75537157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2ED-5D88-4A47-B0E8-DE62A70E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4E1-0239-4B2F-8A4C-5ADFB92E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013-53E4-4EDB-8EEA-12F5F1DE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D15-A176-4E33-B123-E9C78F84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D6C-B69B-4007-8B6B-A63F4755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B41-39AD-428D-980E-C00E6323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7462-E313-4F01-BBBE-D89B02416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viously, the Hardy-Weinberg equilibrium cannot exist in real lif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r all of these types of forces all act on living populations at various times and evolution at some level occurs in all living organis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ardy-Weinberg formulas allow us to detect some allele frequencies that change from generation to generation, thus allowing a simplified method of determining that evolution is occurr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y-Weinberg Formu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pq +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+ q = 1 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= frequency of the dominant allele in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= frequency of the recessive allele in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ercentage of homozygous dominant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ercentage of homozygous recessive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pq = percentage of heterozygous individu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chanisms that Affect Gene P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dividuals are produced each generation that can surv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enotypic variation exists among individuals and the variation is heri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individuals with heritable traits better suited to the environment will surv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productive isolation occurs new species will for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each generation, some individuals may, just by chance, leave behind a few more descendents (and genes, of course!) than other individua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genes of the next generation will be the genes of the “lucky” individuals, not necessarily the healthier or “better” individuals. That, in a nutshell, is genetic drift. It happens to ALL popu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dom change in allele frequ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change in  the gene pool due to the migration of individuals between popu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mutation is basically a gene that has an abnormality in relation to its normal configur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curs when a DNA sequence is damaged or changed in such a way as to alter the genetic message carried by that g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tic Variation in Pop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olution is a change in populations over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evolution is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an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species, can occur within 1 or over hundreds of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roevolution i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species, usually is over very long periods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evolution is a change in the genetic composition of popu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 genetics studies micro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ene_pool_lg"/>
          <p:cNvPicPr/>
          <p:nvPr/>
        </p:nvPicPr>
        <p:blipFill>
          <a:blip r:embed="rId1"/>
          <a:stretch/>
        </p:blipFill>
        <p:spPr>
          <a:xfrm>
            <a:off x="609480" y="274680"/>
            <a:ext cx="3600720" cy="6583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878000" y="6248520"/>
            <a:ext cx="396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66"/>
                </a:solidFill>
                <a:latin typeface="Arial"/>
                <a:ea typeface="Arial"/>
              </a:rPr>
              <a:t>Courtesy of Windows to the Universe, http://www.windows.ucar.e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49568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434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 P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19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 p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population is the complete set of unique alleles that would be found by inspecting the genetic material of every living member of that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wo individuals of a species are exactly alike (even identical twins have differences –height, weight, et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wo or more alleles of a gene are present in a gene pool, the population is said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ymorph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s have concluded that almost al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pulations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x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oducing organisms have much variation in their gene p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? Abou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05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DNA bases are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humans with 3 billion base pairs, this is 15 million variable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urce of this variation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mbi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lleles during meio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rdy-Wein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fying concept of population genetics is the Hardy-Weinberg Law (named after the two scientists who simultaneously described the law). The law predicts how gene frequencies will be transmitted from generation to generation given a specific set of assum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rdy-Weinberg model allows scientists to determine whether evolu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as occur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gene frequencies in the population over time can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w essentially states that i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 ev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ccurring, then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llele frequencies will remain in effect in each succeeding generation of sexually reproducing individua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quilib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main in effect (i.e. that no evolution is occurring) then the following conditions must be me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 of Hardy-Weinbe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ganism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p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s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overlapp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size is ver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eglig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oduction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x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tes unite 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eglig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selection do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22:01Z</dcterms:created>
  <dc:creator>Family</dc:creator>
  <dc:description/>
  <dc:language>en-US</dc:language>
  <cp:lastModifiedBy>biochemchic21</cp:lastModifiedBy>
  <dcterms:modified xsi:type="dcterms:W3CDTF">2011-09-24T19:11:13Z</dcterms:modified>
  <cp:revision>8</cp:revision>
  <dc:subject/>
  <dc:title>Population Genetics</dc:title>
</cp:coreProperties>
</file>